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A5B-6EA8-4C7F-8B5C-2ECA6FA2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AFA-8985-4D1B-978F-E8B56A97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348-03A2-4C44-8230-20D98B6E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752-9341-4FD9-ACC5-9F787D11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08E-16D3-4101-976C-4A38A533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D24-F46A-407D-948A-00CC3361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FD6-D293-4E27-AC27-88AEC8F4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CC1-40DB-4706-8F91-A2A601AA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C92-4D86-42B7-8B94-7A0F614D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A68-80EB-45A6-9DDE-DC8C1A69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DCD-AD3E-41B1-883E-E87AFBD7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946-18AE-4B17-B873-296505A9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123F-A3BD-428C-BC4A-D4BD22633A1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49360"/>
            <a:ext cx="2916360" cy="1557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VIM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141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476280"/>
            <a:ext cx="2016000" cy="1413000"/>
          </a:xfrm>
          <a:prstGeom prst="rect">
            <a:avLst/>
          </a:prstGeom>
          <a:solidFill>
            <a:srgbClr val="a6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nno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un al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6443640" y="83664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1773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260280"/>
            <a:ext cx="1763640" cy="1052640"/>
          </a:xfrm>
          <a:prstGeom prst="rect">
            <a:avLst/>
          </a:prstGeom>
          <a:solidFill>
            <a:srgbClr val="a6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 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7541640" y="1753920"/>
            <a:ext cx="1619280" cy="1079640"/>
          </a:xfrm>
          <a:prstGeom prst="rect">
            <a:avLst/>
          </a:prstGeom>
          <a:solidFill>
            <a:srgbClr val="a6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ggire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erre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1989000"/>
            <a:ext cx="5050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3284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6480000" y="3394080"/>
            <a:ext cx="143964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v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mi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443280" y="465300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5157720"/>
            <a:ext cx="129564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465300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51640" y="5445000"/>
            <a:ext cx="169236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rica/ 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81360"/>
            <a:ext cx="2700360" cy="1081080"/>
          </a:xfrm>
          <a:prstGeom prst="rect">
            <a:avLst/>
          </a:prstGeom>
          <a:solidFill>
            <a:srgbClr val="a7f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i italiani sono st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igrati in molti paesi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che se meno di una vol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 sono anche o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2565360"/>
            <a:ext cx="2232000" cy="1584360"/>
          </a:xfrm>
          <a:prstGeom prst="rect">
            <a:avLst/>
          </a:prstGeom>
          <a:solidFill>
            <a:srgbClr val="a7f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 chiama EMIGRAZION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ndo le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 un paese se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nno all’ estero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4797360"/>
            <a:ext cx="1584360" cy="503280"/>
          </a:xfrm>
          <a:prstGeom prst="rect">
            <a:avLst/>
          </a:prstGeom>
          <a:solidFill>
            <a:srgbClr val="a7f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mete principal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16000" y="5300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6165720"/>
            <a:ext cx="1295640" cy="503280"/>
          </a:xfrm>
          <a:prstGeom prst="rect">
            <a:avLst/>
          </a:prstGeom>
          <a:solidFill>
            <a:srgbClr val="a7f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esi 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48000" y="6165720"/>
            <a:ext cx="1079640" cy="505080"/>
          </a:xfrm>
          <a:prstGeom prst="rect">
            <a:avLst/>
          </a:prstGeom>
          <a:solidFill>
            <a:srgbClr val="a7f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30064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6093000"/>
            <a:ext cx="1440000" cy="431640"/>
          </a:xfrm>
          <a:prstGeom prst="rect">
            <a:avLst/>
          </a:prstGeom>
          <a:solidFill>
            <a:srgbClr val="a7f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7640" y="2205000"/>
            <a:ext cx="252108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ndo in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vano stranieri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vere 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8:14Z</dcterms:created>
  <dc:creator>studente</dc:creator>
  <dc:description/>
  <dc:language>en-US</dc:language>
  <cp:lastModifiedBy>studente</cp:lastModifiedBy>
  <dcterms:modified xsi:type="dcterms:W3CDTF">2016-12-05T08:57:37Z</dcterms:modified>
  <cp:revision>3</cp:revision>
  <dc:subject/>
  <dc:title>Diapositiva 1</dc:title>
</cp:coreProperties>
</file>